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789F-5F70-4134-A946-48E40397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5B0-2A9F-4765-AFAB-B372B868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22D-B7D5-4FDE-8177-CF0C6B17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F3DE-C422-4FAC-9AB5-1AEA978E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720D-2970-47EE-8EC1-10D1CD2A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1B0-2F8B-4FEC-929A-778A59D7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D5D-C410-494A-A0E6-B782EC17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E02-44B9-474E-A3BC-F7F48592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594-CD26-427E-A282-56532031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3A8-9536-4E6A-846B-63353839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F94-AEF2-475A-A9D5-33FC0E03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2B4-E8DC-409C-9DC6-B6C370CE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613F-31E9-4CA9-8778-22EC4941D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CAS METAMÓR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PUEDEN FORMAR A PARTIR DE LAS ROCAS IGNEAS, SEDIMENTARIAS  O  ROCA METAMORFIZADA  PREVIAMENTE,  P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ECRISTAIZACIÓN EN ESTADO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FUERZAS QUE LLEVAN  LA METAMORFIZACIÓN SON LOS CAMBIOS EN L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MPERATURA, PRESIÓN, Y COMPOSICIÓN DE FLUIDO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LOS PORO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CAMBIOS EN L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,  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f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N NUEVOS MINERALES, NUEVAS TEXTURAS Y NUEVAS ESTRUCTURAS EN LOS CUERPOS DE ROCAS AFEC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RANTE EL METAMORFISMO, GENERALMENTE NUEVOS GRANOS DE MINERALES CRECEN EN LA DIRECCIÓN DEL ÚLTIMO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RODUCIENDO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STRUCTURA PLAN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LAMADA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ROCAS CON UN SOLO MINERAL (COMO CALIZA) O AQUELLAS QUE RECRISTALIZAN EN AUSENCIA D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FORMADOR NO DESARROLLA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OTORIA PERO SI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XTURA GRAN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4" idx="0"/>
            <a:endCxn id="160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0"/>
            <a:endCxn id="160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2" idx="2"/>
            <a:endCxn id="160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5" idx="2"/>
            <a:endCxn id="165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76" idx="0"/>
            <a:endCxn id="182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5" idx="0"/>
            <a:endCxn id="182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4" idx="2"/>
            <a:endCxn id="182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77" idx="2"/>
            <a:endCxn id="187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2" idx="0"/>
            <a:endCxn id="208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1" idx="0"/>
            <a:endCxn id="208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0" idx="2"/>
            <a:endCxn id="208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3" idx="2"/>
            <a:endCxn id="213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52280"/>
            <a:ext cx="6934320" cy="6629400"/>
          </a:xfrm>
          <a:prstGeom prst="ellipse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0320"/>
            <a:ext cx="6867360" cy="5672160"/>
          </a:xfrm>
          <a:custGeom>
            <a:avLst/>
            <a:gdLst/>
            <a:ahLst/>
            <a:rect l="l" t="t" r="r" b="b"/>
            <a:pathLst>
              <a:path w="4326" h="3573">
                <a:moveTo>
                  <a:pt x="0" y="1598"/>
                </a:moveTo>
                <a:cubicBezTo>
                  <a:pt x="26" y="1500"/>
                  <a:pt x="52" y="1403"/>
                  <a:pt x="89" y="1313"/>
                </a:cubicBezTo>
                <a:cubicBezTo>
                  <a:pt x="126" y="1223"/>
                  <a:pt x="165" y="1147"/>
                  <a:pt x="222" y="1056"/>
                </a:cubicBezTo>
                <a:cubicBezTo>
                  <a:pt x="279" y="965"/>
                  <a:pt x="357" y="854"/>
                  <a:pt x="432" y="767"/>
                </a:cubicBezTo>
                <a:cubicBezTo>
                  <a:pt x="507" y="680"/>
                  <a:pt x="584" y="609"/>
                  <a:pt x="674" y="534"/>
                </a:cubicBezTo>
                <a:cubicBezTo>
                  <a:pt x="764" y="459"/>
                  <a:pt x="860" y="380"/>
                  <a:pt x="970" y="315"/>
                </a:cubicBezTo>
                <a:cubicBezTo>
                  <a:pt x="1080" y="250"/>
                  <a:pt x="1204" y="192"/>
                  <a:pt x="1336" y="144"/>
                </a:cubicBezTo>
                <a:cubicBezTo>
                  <a:pt x="1468" y="96"/>
                  <a:pt x="1629" y="50"/>
                  <a:pt x="1765" y="27"/>
                </a:cubicBezTo>
                <a:cubicBezTo>
                  <a:pt x="1901" y="4"/>
                  <a:pt x="2010" y="0"/>
                  <a:pt x="2154" y="4"/>
                </a:cubicBezTo>
                <a:cubicBezTo>
                  <a:pt x="2298" y="8"/>
                  <a:pt x="2500" y="27"/>
                  <a:pt x="2630" y="50"/>
                </a:cubicBezTo>
                <a:cubicBezTo>
                  <a:pt x="2760" y="73"/>
                  <a:pt x="2824" y="101"/>
                  <a:pt x="2933" y="144"/>
                </a:cubicBezTo>
                <a:cubicBezTo>
                  <a:pt x="3042" y="187"/>
                  <a:pt x="3167" y="239"/>
                  <a:pt x="3284" y="308"/>
                </a:cubicBezTo>
                <a:cubicBezTo>
                  <a:pt x="3401" y="377"/>
                  <a:pt x="3530" y="462"/>
                  <a:pt x="3635" y="557"/>
                </a:cubicBezTo>
                <a:cubicBezTo>
                  <a:pt x="3740" y="652"/>
                  <a:pt x="3836" y="769"/>
                  <a:pt x="3915" y="877"/>
                </a:cubicBezTo>
                <a:cubicBezTo>
                  <a:pt x="3994" y="985"/>
                  <a:pt x="4055" y="1098"/>
                  <a:pt x="4110" y="1204"/>
                </a:cubicBezTo>
                <a:cubicBezTo>
                  <a:pt x="4165" y="1310"/>
                  <a:pt x="4209" y="1404"/>
                  <a:pt x="4243" y="1516"/>
                </a:cubicBezTo>
                <a:cubicBezTo>
                  <a:pt x="4277" y="1628"/>
                  <a:pt x="4300" y="1759"/>
                  <a:pt x="4313" y="1874"/>
                </a:cubicBezTo>
                <a:cubicBezTo>
                  <a:pt x="4326" y="1989"/>
                  <a:pt x="4326" y="2087"/>
                  <a:pt x="4321" y="2209"/>
                </a:cubicBezTo>
                <a:cubicBezTo>
                  <a:pt x="4316" y="2331"/>
                  <a:pt x="4309" y="2485"/>
                  <a:pt x="4282" y="2607"/>
                </a:cubicBezTo>
                <a:cubicBezTo>
                  <a:pt x="4255" y="2729"/>
                  <a:pt x="4212" y="2830"/>
                  <a:pt x="4157" y="2942"/>
                </a:cubicBezTo>
                <a:cubicBezTo>
                  <a:pt x="4102" y="3054"/>
                  <a:pt x="4031" y="3172"/>
                  <a:pt x="3954" y="3277"/>
                </a:cubicBezTo>
                <a:cubicBezTo>
                  <a:pt x="3877" y="3382"/>
                  <a:pt x="3716" y="3493"/>
                  <a:pt x="3697" y="357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28600" cy="38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70"/>
                </a:moveTo>
                <a:cubicBezTo>
                  <a:pt x="7" y="51"/>
                  <a:pt x="24" y="0"/>
                  <a:pt x="47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3126600">
            <a:off x="493920" y="5371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News Gothic MT"/>
              </a:rPr>
              <a:t>EX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1838160"/>
            <a:ext cx="304920" cy="644760"/>
          </a:xfrm>
          <a:custGeom>
            <a:avLst/>
            <a:gdLst/>
            <a:ahLst/>
            <a:rect l="l" t="t" r="r" b="b"/>
            <a:pathLst>
              <a:path w="192" h="406">
                <a:moveTo>
                  <a:pt x="0" y="406"/>
                </a:moveTo>
                <a:cubicBezTo>
                  <a:pt x="9" y="380"/>
                  <a:pt x="21" y="358"/>
                  <a:pt x="32" y="334"/>
                </a:cubicBezTo>
                <a:cubicBezTo>
                  <a:pt x="35" y="326"/>
                  <a:pt x="35" y="317"/>
                  <a:pt x="40" y="310"/>
                </a:cubicBezTo>
                <a:cubicBezTo>
                  <a:pt x="45" y="302"/>
                  <a:pt x="53" y="295"/>
                  <a:pt x="56" y="286"/>
                </a:cubicBezTo>
                <a:cubicBezTo>
                  <a:pt x="59" y="278"/>
                  <a:pt x="64" y="262"/>
                  <a:pt x="64" y="262"/>
                </a:cubicBezTo>
                <a:cubicBezTo>
                  <a:pt x="67" y="228"/>
                  <a:pt x="62" y="219"/>
                  <a:pt x="88" y="202"/>
                </a:cubicBezTo>
                <a:cubicBezTo>
                  <a:pt x="95" y="180"/>
                  <a:pt x="101" y="158"/>
                  <a:pt x="112" y="138"/>
                </a:cubicBezTo>
                <a:cubicBezTo>
                  <a:pt x="119" y="125"/>
                  <a:pt x="131" y="116"/>
                  <a:pt x="136" y="102"/>
                </a:cubicBezTo>
                <a:cubicBezTo>
                  <a:pt x="139" y="94"/>
                  <a:pt x="139" y="85"/>
                  <a:pt x="144" y="78"/>
                </a:cubicBezTo>
                <a:cubicBezTo>
                  <a:pt x="155" y="62"/>
                  <a:pt x="165" y="46"/>
                  <a:pt x="176" y="30"/>
                </a:cubicBezTo>
                <a:cubicBezTo>
                  <a:pt x="179" y="25"/>
                  <a:pt x="182" y="19"/>
                  <a:pt x="184" y="14"/>
                </a:cubicBezTo>
                <a:cubicBezTo>
                  <a:pt x="186" y="10"/>
                  <a:pt x="192" y="4"/>
                  <a:pt x="188" y="2"/>
                </a:cubicBezTo>
                <a:cubicBezTo>
                  <a:pt x="184" y="0"/>
                  <a:pt x="180" y="7"/>
                  <a:pt x="176" y="10"/>
                </a:cubicBezTo>
                <a:cubicBezTo>
                  <a:pt x="166" y="25"/>
                  <a:pt x="171" y="19"/>
                  <a:pt x="160" y="3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73920" y="4197240"/>
            <a:ext cx="120600" cy="406440"/>
          </a:xfrm>
          <a:custGeom>
            <a:avLst/>
            <a:gdLst/>
            <a:ahLst/>
            <a:rect l="l" t="t" r="r" b="b"/>
            <a:pathLst>
              <a:path w="76" h="256">
                <a:moveTo>
                  <a:pt x="0" y="256"/>
                </a:moveTo>
                <a:cubicBezTo>
                  <a:pt x="10" y="206"/>
                  <a:pt x="32" y="153"/>
                  <a:pt x="48" y="104"/>
                </a:cubicBezTo>
                <a:cubicBezTo>
                  <a:pt x="54" y="85"/>
                  <a:pt x="58" y="67"/>
                  <a:pt x="64" y="48"/>
                </a:cubicBezTo>
                <a:cubicBezTo>
                  <a:pt x="67" y="40"/>
                  <a:pt x="72" y="24"/>
                  <a:pt x="72" y="24"/>
                </a:cubicBezTo>
                <a:cubicBezTo>
                  <a:pt x="71" y="20"/>
                  <a:pt x="67" y="16"/>
                  <a:pt x="68" y="12"/>
                </a:cubicBezTo>
                <a:cubicBezTo>
                  <a:pt x="69" y="7"/>
                  <a:pt x="76" y="0"/>
                  <a:pt x="76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9600" y="885960"/>
            <a:ext cx="120960" cy="114120"/>
          </a:xfrm>
          <a:custGeom>
            <a:avLst/>
            <a:gdLst/>
            <a:ahLst/>
            <a:rect l="l" t="t" r="r" b="b"/>
            <a:pathLst>
              <a:path w="76" h="72">
                <a:moveTo>
                  <a:pt x="0" y="0"/>
                </a:moveTo>
                <a:cubicBezTo>
                  <a:pt x="46" y="5"/>
                  <a:pt x="27" y="4"/>
                  <a:pt x="39" y="39"/>
                </a:cubicBezTo>
                <a:cubicBezTo>
                  <a:pt x="60" y="32"/>
                  <a:pt x="51" y="31"/>
                  <a:pt x="66" y="36"/>
                </a:cubicBezTo>
                <a:cubicBezTo>
                  <a:pt x="76" y="51"/>
                  <a:pt x="75" y="53"/>
                  <a:pt x="72" y="72"/>
                </a:cubicBezTo>
                <a:cubicBezTo>
                  <a:pt x="50" y="65"/>
                  <a:pt x="65" y="57"/>
                  <a:pt x="54" y="39"/>
                </a:cubicBezTo>
                <a:cubicBezTo>
                  <a:pt x="50" y="33"/>
                  <a:pt x="42" y="31"/>
                  <a:pt x="36" y="27"/>
                </a:cubicBezTo>
                <a:cubicBezTo>
                  <a:pt x="33" y="25"/>
                  <a:pt x="27" y="21"/>
                  <a:pt x="27" y="21"/>
                </a:cubicBezTo>
                <a:cubicBezTo>
                  <a:pt x="26" y="19"/>
                  <a:pt x="12" y="3"/>
                  <a:pt x="21" y="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03880" y="179280"/>
            <a:ext cx="426960" cy="144720"/>
          </a:xfrm>
          <a:custGeom>
            <a:avLst/>
            <a:gdLst/>
            <a:ahLst/>
            <a:rect l="l" t="t" r="r" b="b"/>
            <a:pathLst>
              <a:path w="269" h="91">
                <a:moveTo>
                  <a:pt x="25" y="37"/>
                </a:moveTo>
                <a:cubicBezTo>
                  <a:pt x="32" y="32"/>
                  <a:pt x="38" y="26"/>
                  <a:pt x="46" y="22"/>
                </a:cubicBezTo>
                <a:cubicBezTo>
                  <a:pt x="52" y="19"/>
                  <a:pt x="64" y="16"/>
                  <a:pt x="64" y="16"/>
                </a:cubicBezTo>
                <a:cubicBezTo>
                  <a:pt x="90" y="20"/>
                  <a:pt x="98" y="35"/>
                  <a:pt x="115" y="52"/>
                </a:cubicBezTo>
                <a:cubicBezTo>
                  <a:pt x="122" y="59"/>
                  <a:pt x="142" y="64"/>
                  <a:pt x="142" y="64"/>
                </a:cubicBezTo>
                <a:cubicBezTo>
                  <a:pt x="153" y="58"/>
                  <a:pt x="164" y="52"/>
                  <a:pt x="175" y="46"/>
                </a:cubicBezTo>
                <a:cubicBezTo>
                  <a:pt x="184" y="47"/>
                  <a:pt x="193" y="47"/>
                  <a:pt x="202" y="49"/>
                </a:cubicBezTo>
                <a:cubicBezTo>
                  <a:pt x="211" y="51"/>
                  <a:pt x="229" y="58"/>
                  <a:pt x="229" y="58"/>
                </a:cubicBezTo>
                <a:cubicBezTo>
                  <a:pt x="238" y="67"/>
                  <a:pt x="252" y="73"/>
                  <a:pt x="235" y="79"/>
                </a:cubicBezTo>
                <a:cubicBezTo>
                  <a:pt x="220" y="75"/>
                  <a:pt x="208" y="73"/>
                  <a:pt x="196" y="61"/>
                </a:cubicBezTo>
                <a:cubicBezTo>
                  <a:pt x="188" y="53"/>
                  <a:pt x="174" y="35"/>
                  <a:pt x="160" y="34"/>
                </a:cubicBezTo>
                <a:cubicBezTo>
                  <a:pt x="136" y="32"/>
                  <a:pt x="112" y="32"/>
                  <a:pt x="88" y="31"/>
                </a:cubicBezTo>
                <a:cubicBezTo>
                  <a:pt x="81" y="30"/>
                  <a:pt x="74" y="30"/>
                  <a:pt x="67" y="28"/>
                </a:cubicBezTo>
                <a:cubicBezTo>
                  <a:pt x="61" y="27"/>
                  <a:pt x="49" y="22"/>
                  <a:pt x="49" y="22"/>
                </a:cubicBezTo>
                <a:cubicBezTo>
                  <a:pt x="34" y="0"/>
                  <a:pt x="62" y="5"/>
                  <a:pt x="76" y="7"/>
                </a:cubicBezTo>
                <a:cubicBezTo>
                  <a:pt x="115" y="20"/>
                  <a:pt x="142" y="57"/>
                  <a:pt x="181" y="67"/>
                </a:cubicBezTo>
                <a:cubicBezTo>
                  <a:pt x="207" y="65"/>
                  <a:pt x="228" y="60"/>
                  <a:pt x="253" y="64"/>
                </a:cubicBezTo>
                <a:cubicBezTo>
                  <a:pt x="269" y="69"/>
                  <a:pt x="265" y="76"/>
                  <a:pt x="262" y="91"/>
                </a:cubicBezTo>
                <a:cubicBezTo>
                  <a:pt x="229" y="86"/>
                  <a:pt x="210" y="69"/>
                  <a:pt x="187" y="46"/>
                </a:cubicBezTo>
                <a:cubicBezTo>
                  <a:pt x="177" y="36"/>
                  <a:pt x="175" y="38"/>
                  <a:pt x="163" y="31"/>
                </a:cubicBezTo>
                <a:cubicBezTo>
                  <a:pt x="157" y="27"/>
                  <a:pt x="145" y="19"/>
                  <a:pt x="145" y="19"/>
                </a:cubicBezTo>
                <a:cubicBezTo>
                  <a:pt x="117" y="23"/>
                  <a:pt x="89" y="33"/>
                  <a:pt x="61" y="40"/>
                </a:cubicBezTo>
                <a:cubicBezTo>
                  <a:pt x="29" y="37"/>
                  <a:pt x="31" y="41"/>
                  <a:pt x="19" y="19"/>
                </a:cubicBezTo>
                <a:cubicBezTo>
                  <a:pt x="15" y="13"/>
                  <a:pt x="0" y="0"/>
                  <a:pt x="7" y="1"/>
                </a:cubicBezTo>
                <a:cubicBezTo>
                  <a:pt x="45" y="4"/>
                  <a:pt x="122" y="7"/>
                  <a:pt x="157" y="25"/>
                </a:cubicBezTo>
                <a:cubicBezTo>
                  <a:pt x="178" y="35"/>
                  <a:pt x="198" y="51"/>
                  <a:pt x="220" y="58"/>
                </a:cubicBezTo>
                <a:cubicBezTo>
                  <a:pt x="230" y="68"/>
                  <a:pt x="240" y="81"/>
                  <a:pt x="253" y="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80880"/>
            <a:ext cx="585720" cy="419400"/>
          </a:xfrm>
          <a:custGeom>
            <a:avLst/>
            <a:gdLst/>
            <a:ahLst/>
            <a:rect l="l" t="t" r="r" b="b"/>
            <a:pathLst>
              <a:path w="300" h="180">
                <a:moveTo>
                  <a:pt x="0" y="141"/>
                </a:moveTo>
                <a:cubicBezTo>
                  <a:pt x="26" y="121"/>
                  <a:pt x="32" y="115"/>
                  <a:pt x="66" y="111"/>
                </a:cubicBezTo>
                <a:cubicBezTo>
                  <a:pt x="102" y="102"/>
                  <a:pt x="130" y="93"/>
                  <a:pt x="162" y="72"/>
                </a:cubicBezTo>
                <a:cubicBezTo>
                  <a:pt x="166" y="69"/>
                  <a:pt x="184" y="67"/>
                  <a:pt x="186" y="66"/>
                </a:cubicBezTo>
                <a:cubicBezTo>
                  <a:pt x="194" y="64"/>
                  <a:pt x="210" y="60"/>
                  <a:pt x="210" y="60"/>
                </a:cubicBezTo>
                <a:cubicBezTo>
                  <a:pt x="216" y="56"/>
                  <a:pt x="222" y="52"/>
                  <a:pt x="228" y="48"/>
                </a:cubicBezTo>
                <a:cubicBezTo>
                  <a:pt x="235" y="43"/>
                  <a:pt x="253" y="25"/>
                  <a:pt x="246" y="30"/>
                </a:cubicBezTo>
                <a:cubicBezTo>
                  <a:pt x="243" y="32"/>
                  <a:pt x="240" y="34"/>
                  <a:pt x="237" y="36"/>
                </a:cubicBezTo>
                <a:cubicBezTo>
                  <a:pt x="235" y="43"/>
                  <a:pt x="235" y="51"/>
                  <a:pt x="231" y="57"/>
                </a:cubicBezTo>
                <a:cubicBezTo>
                  <a:pt x="208" y="97"/>
                  <a:pt x="115" y="128"/>
                  <a:pt x="72" y="135"/>
                </a:cubicBezTo>
                <a:cubicBezTo>
                  <a:pt x="63" y="141"/>
                  <a:pt x="53" y="143"/>
                  <a:pt x="45" y="150"/>
                </a:cubicBezTo>
                <a:cubicBezTo>
                  <a:pt x="31" y="161"/>
                  <a:pt x="27" y="174"/>
                  <a:pt x="9" y="180"/>
                </a:cubicBezTo>
                <a:cubicBezTo>
                  <a:pt x="3" y="157"/>
                  <a:pt x="14" y="151"/>
                  <a:pt x="36" y="147"/>
                </a:cubicBezTo>
                <a:cubicBezTo>
                  <a:pt x="57" y="133"/>
                  <a:pt x="82" y="119"/>
                  <a:pt x="105" y="108"/>
                </a:cubicBezTo>
                <a:cubicBezTo>
                  <a:pt x="111" y="105"/>
                  <a:pt x="118" y="106"/>
                  <a:pt x="123" y="102"/>
                </a:cubicBezTo>
                <a:cubicBezTo>
                  <a:pt x="141" y="90"/>
                  <a:pt x="165" y="75"/>
                  <a:pt x="186" y="69"/>
                </a:cubicBezTo>
                <a:cubicBezTo>
                  <a:pt x="226" y="58"/>
                  <a:pt x="260" y="58"/>
                  <a:pt x="291" y="27"/>
                </a:cubicBezTo>
                <a:cubicBezTo>
                  <a:pt x="300" y="0"/>
                  <a:pt x="242" y="31"/>
                  <a:pt x="231" y="36"/>
                </a:cubicBezTo>
                <a:cubicBezTo>
                  <a:pt x="222" y="49"/>
                  <a:pt x="213" y="58"/>
                  <a:pt x="198" y="63"/>
                </a:cubicBezTo>
                <a:cubicBezTo>
                  <a:pt x="171" y="83"/>
                  <a:pt x="94" y="113"/>
                  <a:pt x="60" y="120"/>
                </a:cubicBezTo>
                <a:cubicBezTo>
                  <a:pt x="44" y="131"/>
                  <a:pt x="28" y="140"/>
                  <a:pt x="12" y="150"/>
                </a:cubicBezTo>
                <a:cubicBezTo>
                  <a:pt x="1" y="117"/>
                  <a:pt x="56" y="106"/>
                  <a:pt x="78" y="102"/>
                </a:cubicBezTo>
                <a:cubicBezTo>
                  <a:pt x="109" y="81"/>
                  <a:pt x="138" y="63"/>
                  <a:pt x="174" y="54"/>
                </a:cubicBezTo>
                <a:cubicBezTo>
                  <a:pt x="201" y="36"/>
                  <a:pt x="234" y="21"/>
                  <a:pt x="267" y="2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S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ONTAC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ASOCIADO A CAMBIOS TERMALES Y QUÍMICO CERCA DEL CONTACTO DE LOS CUERPOS INTRUSIVOS IGNEOS, Y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REGION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QUE SE DESARROLLA EN LAS RAICES DE LAS CADENAS MONTAÑOSAS,  A LOS LARGO DE LOS CONTACTOS CONVERGENTES DE PLACAS,  DONDE LA PRESIÓN Y LA TEMPERATURA CRECEN DE MANERA EXCEPCIONALMENTE ALTO. EXISTE TAMBIÉN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ARG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Y UN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 DINÁMICO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en zonas de fall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AS DE MINERAL SE PRODUCEN DONDE LA TEMPERATURA, PRESIÓN   O   COMPOSICIÓN  DE  LOS   FLUIDOS   VARÍAN SISTEMÁTICAMENTE A TRAVÉS DE CADENAS METAMÓRFICAS   O ALREDEDOR DE CUERPOS INTRUSIVOS IGNE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TIPOS MAYORES D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 METAMÓRFICAS 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IZARRAS, ESQUISTOS, GNEISS Y MILON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NO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MPORTANTES 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UARCITAS, MÁRMOL, ROCAS CORNEAS, ROCAS VERDES Y GRANUL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  ELLAS SE DISTINGUEN POR SU TEXTURA Y,  SECUNDARIAMENTE,  POR SU COMPOSI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OC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intensidad del metamorfism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tita                       Piza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iolita                              Esqu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nito                                        Gn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salto                                  Anfibol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liza                                  Mar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enisca                              Cuarc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182880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2168640"/>
            <a:ext cx="18288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1600200"/>
            <a:ext cx="16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352680"/>
            <a:ext cx="304776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5812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2666880"/>
            <a:ext cx="6858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676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743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962520"/>
            <a:ext cx="26668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41911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267080" y="2743200"/>
            <a:ext cx="106704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495680"/>
            <a:ext cx="35816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4724280"/>
            <a:ext cx="2133720" cy="1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5105520"/>
            <a:ext cx="32004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412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066680"/>
            <a:ext cx="2438640" cy="0"/>
          </a:xfrm>
          <a:prstGeom prst="line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CICLO  DE   LAS RO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4140000">
            <a:off x="6358680" y="2416320"/>
            <a:ext cx="19126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46360" y="2895480"/>
            <a:ext cx="285480" cy="1727280"/>
          </a:xfrm>
          <a:custGeom>
            <a:avLst/>
            <a:gdLst/>
            <a:ahLst/>
            <a:rect l="l" t="t" r="r" b="b"/>
            <a:pathLst>
              <a:path w="180" h="1060">
                <a:moveTo>
                  <a:pt x="32" y="0"/>
                </a:moveTo>
                <a:cubicBezTo>
                  <a:pt x="23" y="35"/>
                  <a:pt x="18" y="72"/>
                  <a:pt x="12" y="108"/>
                </a:cubicBezTo>
                <a:cubicBezTo>
                  <a:pt x="10" y="166"/>
                  <a:pt x="5" y="212"/>
                  <a:pt x="0" y="268"/>
                </a:cubicBezTo>
                <a:cubicBezTo>
                  <a:pt x="7" y="385"/>
                  <a:pt x="3" y="501"/>
                  <a:pt x="40" y="612"/>
                </a:cubicBezTo>
                <a:cubicBezTo>
                  <a:pt x="42" y="664"/>
                  <a:pt x="29" y="689"/>
                  <a:pt x="60" y="720"/>
                </a:cubicBezTo>
                <a:cubicBezTo>
                  <a:pt x="71" y="753"/>
                  <a:pt x="54" y="701"/>
                  <a:pt x="68" y="764"/>
                </a:cubicBezTo>
                <a:cubicBezTo>
                  <a:pt x="81" y="825"/>
                  <a:pt x="102" y="900"/>
                  <a:pt x="136" y="952"/>
                </a:cubicBezTo>
                <a:cubicBezTo>
                  <a:pt x="135" y="964"/>
                  <a:pt x="130" y="976"/>
                  <a:pt x="132" y="988"/>
                </a:cubicBezTo>
                <a:cubicBezTo>
                  <a:pt x="133" y="993"/>
                  <a:pt x="172" y="1052"/>
                  <a:pt x="180" y="1060"/>
                </a:cubicBezTo>
                <a:cubicBezTo>
                  <a:pt x="175" y="1044"/>
                  <a:pt x="163" y="1043"/>
                  <a:pt x="156" y="1028"/>
                </a:cubicBezTo>
                <a:cubicBezTo>
                  <a:pt x="148" y="1009"/>
                  <a:pt x="143" y="988"/>
                  <a:pt x="136" y="968"/>
                </a:cubicBezTo>
                <a:cubicBezTo>
                  <a:pt x="133" y="959"/>
                  <a:pt x="123" y="953"/>
                  <a:pt x="120" y="944"/>
                </a:cubicBezTo>
                <a:cubicBezTo>
                  <a:pt x="83" y="834"/>
                  <a:pt x="28" y="718"/>
                  <a:pt x="28" y="6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8:21:04Z</dcterms:created>
  <dc:creator>Universidad de Chile</dc:creator>
  <dc:description/>
  <dc:language>en-US</dc:language>
  <cp:lastModifiedBy>Compaq</cp:lastModifiedBy>
  <dcterms:modified xsi:type="dcterms:W3CDTF">2001-08-23T02:55:23Z</dcterms:modified>
  <cp:revision>16</cp:revision>
  <dc:subject/>
  <dc:title>ROCAS METAMÓRFICAS</dc:title>
</cp:coreProperties>
</file>